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C850-363E-4F72-B1D6-B8739B1E2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C27B-6462-496D-9819-398BACFF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7598-D42E-4F16-8467-87D330CCE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36B0-1300-4BBB-8C8B-B553D21ED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3842-B5CE-49F3-8604-AA8F12FB1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5696-AF75-4324-999E-F707B2C7D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C343-3D41-4BB5-9D99-8A5ED28C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A4F7-E8BC-4DF2-9838-E0DAF265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B0F3-44DD-447C-8405-81275C97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C2ED-5569-4CF1-80A0-1A7C698C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AA2A-9129-4646-83E6-76C87F33B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B821-6013-474E-8EDF-EDA4FC854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A8D7-434E-4CF8-A138-9F78D0829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0E4E-79C0-4DF8-99B6-6D26A5A16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D37D-93A0-42C4-9AE4-8468418D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A980-DD46-4161-88C6-674D773C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6EFD-CC0A-4D50-B558-B52FEC807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4E7A-C0F9-4EC1-BCEA-9C295294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942F-3AD3-426F-80EC-F23CDE384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2104-E01A-40D9-9FFE-50A7E404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E35F-ACD0-4BE9-B6C9-55CE3F82F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88F6-FF1B-48A6-8165-697FFF62C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269C-0D51-4624-BCEC-CD94ACD3F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A77C-B360-4C8F-8F3D-3517280FF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A092-8EA7-4C88-80AA-439AE2752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53C7-646A-4DAE-9CAE-9C18FEB5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8F3E-EA92-4EBD-9029-F50652ECE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D6C8-06E1-496F-8AAD-7B2262DDA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DF36-20FA-491E-AAC4-31AC05223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059-C073-42D2-BFC2-88895DCFB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EE0-9424-4A2D-9633-95504311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CFA-B2B4-4968-B36A-A863A37A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48F-D139-4FB8-9881-E378A3C7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68B-B145-4FDB-9206-14BB4695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3EE-5733-47DC-BF34-EAFC356E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DD7-AFA5-482A-9B25-BA2DEA99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5B3-8A04-41D6-A1AA-1C8C012E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F09-B980-46B5-8009-F0177030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51C-4271-4C72-AB91-01589847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99E6-A26B-43EB-93C5-72CCC33B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B3C8-01A4-444D-B18D-570AF505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7CD-D458-40E1-9C51-261F2108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01FC-7A33-4690-A7A2-2FC6AC600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_LuJGobrpw&amp;NR=1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frontleft"/>
          <p:cNvPicPr/>
          <p:nvPr/>
        </p:nvPicPr>
        <p:blipFill>
          <a:blip r:embed="rId1">
            <a:lum bright="-60000"/>
          </a:blip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Lucida Calligraphy"/>
              </a:rPr>
              <a:t>Body Organization and Structu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3346200"/>
            <a:ext cx="304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188x10_Dense_labeled"/>
          <p:cNvPicPr/>
          <p:nvPr/>
        </p:nvPicPr>
        <p:blipFill>
          <a:blip r:embed="rId1"/>
          <a:stretch/>
        </p:blipFill>
        <p:spPr>
          <a:xfrm>
            <a:off x="-228600" y="-571680"/>
            <a:ext cx="9601200" cy="8001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ONNECTIVE TISS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oins, supports, protects, insulates, nourishes, and cushions organs.  It also keeps organs from falling apa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tissues"/>
          <p:cNvPicPr/>
          <p:nvPr/>
        </p:nvPicPr>
        <p:blipFill>
          <a:blip r:embed="rId1"/>
          <a:stretch/>
        </p:blipFill>
        <p:spPr>
          <a:xfrm>
            <a:off x="3276720" y="19051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Arial"/>
              </a:rPr>
              <a:t>TISSUE + TISSUE= ORG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380880" y="1219320"/>
            <a:ext cx="95248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wo or more tissues working together, form a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organ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0" y="2666880"/>
            <a:ext cx="32004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One type of tissue alone cannot do all of the things that several types working together can 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sign_caution_blk_l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3733920"/>
            <a:ext cx="4572000" cy="3124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200177291-001_4"/>
          <p:cNvPicPr/>
          <p:nvPr/>
        </p:nvPicPr>
        <p:blipFill>
          <a:blip r:embed="rId2"/>
          <a:stretch/>
        </p:blipFill>
        <p:spPr>
          <a:xfrm>
            <a:off x="4448160" y="838080"/>
            <a:ext cx="448308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 Narrow"/>
              </a:rPr>
              <a:t>ORGAN + ORGAN = ORGA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5334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gans working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ke up 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800080"/>
                </a:solidFill>
                <a:latin typeface="Arial"/>
              </a:rPr>
              <a:t>organ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" y="4724280"/>
            <a:ext cx="4191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ailure of any part can affect the entire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4495680" cy="5638680"/>
          </a:xfrm>
          <a:prstGeom prst="rect">
            <a:avLst/>
          </a:prstGeom>
          <a:solidFill>
            <a:srgbClr val="f6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umenta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a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218960"/>
            <a:ext cx="4495680" cy="5638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tiv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ymphatic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 Black"/>
              </a:rPr>
              <a:t>11 MAJOR ORGA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68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68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68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Integumentary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80880" y="1142640"/>
            <a:ext cx="3581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  </a:t>
            </a: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Includes skin, hair, nails and their underlying</a:t>
            </a:r>
            <a:r>
              <a:rPr b="0" lang="en-US" sz="54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19679"/>
          <p:cNvPicPr/>
          <p:nvPr/>
        </p:nvPicPr>
        <p:blipFill>
          <a:blip r:embed="rId1"/>
          <a:stretch/>
        </p:blipFill>
        <p:spPr>
          <a:xfrm>
            <a:off x="3276720" y="1600200"/>
            <a:ext cx="586728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Muscular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5943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Skeletal muscles move bon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muscleman650"/>
          <p:cNvPicPr/>
          <p:nvPr/>
        </p:nvPicPr>
        <p:blipFill>
          <a:blip r:embed="rId1"/>
          <a:stretch/>
        </p:blipFill>
        <p:spPr>
          <a:xfrm>
            <a:off x="1523880" y="1447920"/>
            <a:ext cx="61912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33cc"/>
                </a:solidFill>
                <a:uFillTx/>
                <a:latin typeface="Arial Black"/>
              </a:rPr>
              <a:t>Skeletal Syst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 Black"/>
              </a:rPr>
              <a:t>Bones frame and protect body part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redir?src=image&amp;clickedItemURN=http%3A%2F%2Fwww"/>
          <p:cNvPicPr/>
          <p:nvPr/>
        </p:nvPicPr>
        <p:blipFill>
          <a:blip r:embed="rId1"/>
          <a:stretch/>
        </p:blipFill>
        <p:spPr>
          <a:xfrm>
            <a:off x="4876920" y="1295280"/>
            <a:ext cx="38098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circulatory"/>
          <p:cNvPicPr/>
          <p:nvPr/>
        </p:nvPicPr>
        <p:blipFill>
          <a:blip r:embed="rId1"/>
          <a:stretch/>
        </p:blipFill>
        <p:spPr>
          <a:xfrm>
            <a:off x="5286240" y="0"/>
            <a:ext cx="38577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9920" cy="25146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Cardiovascular </a:t>
            </a:r>
            <a:r>
              <a:rPr b="1" lang="en-US" sz="6000" spc="-1" strike="noStrike" u="sng">
                <a:solidFill>
                  <a:srgbClr val="0033cc"/>
                </a:solidFill>
                <a:uFillTx/>
                <a:latin typeface="Arial Black"/>
              </a:rPr>
              <a:t>Syst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  </a:t>
            </a: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The heart pumps blood through blood vesse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33cc"/>
                </a:solidFill>
                <a:uFillTx/>
                <a:latin typeface="Arial Black"/>
              </a:rPr>
              <a:t>Respiratory Syste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 Black"/>
              </a:rPr>
              <a:t>Lungs absorb oxygen and release carbon dioxid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lungs5c"/>
          <p:cNvPicPr/>
          <p:nvPr/>
        </p:nvPicPr>
        <p:blipFill>
          <a:blip r:embed="rId1"/>
          <a:stretch/>
        </p:blipFill>
        <p:spPr>
          <a:xfrm>
            <a:off x="2743200" y="1066680"/>
            <a:ext cx="36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i_0273"/>
          <p:cNvPicPr/>
          <p:nvPr/>
        </p:nvPicPr>
        <p:blipFill>
          <a:blip r:embed="rId1"/>
          <a:stretch/>
        </p:blipFill>
        <p:spPr>
          <a:xfrm>
            <a:off x="1066680" y="1373040"/>
            <a:ext cx="6782040" cy="4475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 u="sng">
                <a:solidFill>
                  <a:srgbClr val="0033cc"/>
                </a:solidFill>
                <a:uFillTx/>
                <a:latin typeface="Arial Black"/>
              </a:rPr>
              <a:t>Urinary Syste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Removes wastes from the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blood and regulates body flui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c4d_ice_cube_7"/>
          <p:cNvPicPr/>
          <p:nvPr/>
        </p:nvPicPr>
        <p:blipFill>
          <a:blip r:embed="rId1"/>
          <a:stretch/>
        </p:blipFill>
        <p:spPr>
          <a:xfrm>
            <a:off x="0" y="0"/>
            <a:ext cx="3038400" cy="2666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DO A</a:t>
            </a:r>
            <a:r>
              <a:rPr b="1" lang="en-US" sz="6000" spc="-1" strike="noStrike" u="sng">
                <a:solidFill>
                  <a:srgbClr val="ff0066"/>
                </a:solidFill>
                <a:uFillTx/>
                <a:latin typeface="Arial"/>
              </a:rPr>
              <a:t>N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6000" spc="-1" strike="noStrike" u="sng">
                <a:solidFill>
                  <a:srgbClr val="ff0066"/>
                </a:solidFill>
                <a:uFillTx/>
                <a:latin typeface="Arial"/>
              </a:rPr>
              <a:t>ICE</a:t>
            </a: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 JOB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 initially happens when the ice touches your ski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happens after more time pass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What happens when the ice is remov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How do you think Jack Thayer managed to survive after the sinking of the Titani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Reproductive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 Black"/>
              </a:rPr>
              <a:t> </a:t>
            </a:r>
            <a:r>
              <a:rPr b="1" lang="en-US" sz="5400" spc="-1" strike="noStrike" u="sng">
                <a:solidFill>
                  <a:srgbClr val="0033cc"/>
                </a:solidFill>
                <a:uFillTx/>
                <a:latin typeface="Arial Black"/>
              </a:rPr>
              <a:t>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 Black"/>
              </a:rPr>
              <a:t>Females produces eggs, feed/shelter unborn baby- males produce sp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Female%20reproduction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Autonomic_Nervous_System"/>
          <p:cNvPicPr/>
          <p:nvPr/>
        </p:nvPicPr>
        <p:blipFill>
          <a:blip r:embed="rId1"/>
          <a:stretch/>
        </p:blipFill>
        <p:spPr>
          <a:xfrm>
            <a:off x="1676520" y="1143000"/>
            <a:ext cx="5181480" cy="4767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33cc"/>
                </a:solidFill>
                <a:uFillTx/>
                <a:latin typeface="Arial Black"/>
              </a:rPr>
              <a:t>Nervous Syste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5790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Receives and sends electrical mess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029200" cy="266688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2108da"/>
                </a:solidFill>
                <a:uFillTx/>
                <a:latin typeface="Arial Black"/>
              </a:rPr>
              <a:t>Lymphatic</a:t>
            </a:r>
            <a:r>
              <a:rPr b="1" lang="en-US" sz="6600" spc="-1" strike="noStrike" u="sng">
                <a:solidFill>
                  <a:srgbClr val="0033cc"/>
                </a:solidFill>
                <a:uFillTx/>
                <a:latin typeface="Arial Black"/>
              </a:rPr>
              <a:t> Syst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 Black"/>
              </a:rPr>
              <a:t>Returns leaked fluids to blood vessels and helps flush harmful germs ou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Lymphatic_System"/>
          <p:cNvPicPr/>
          <p:nvPr/>
        </p:nvPicPr>
        <p:blipFill>
          <a:blip r:embed="rId1"/>
          <a:stretch/>
        </p:blipFill>
        <p:spPr>
          <a:xfrm>
            <a:off x="5029200" y="0"/>
            <a:ext cx="37861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33cc"/>
                </a:solidFill>
                <a:uFillTx/>
                <a:latin typeface="Arial Black"/>
              </a:rPr>
              <a:t>Digestive Syste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 Black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33cc"/>
                </a:solidFill>
                <a:latin typeface="Arial Black"/>
              </a:rPr>
              <a:t>Breaks down food into nutrients</a:t>
            </a:r>
            <a:r>
              <a:rPr b="0" lang="en-US" sz="1200" spc="-1" strike="noStrike">
                <a:solidFill>
                  <a:srgbClr val="0033cc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Digest3"/>
          <p:cNvPicPr/>
          <p:nvPr/>
        </p:nvPicPr>
        <p:blipFill>
          <a:blip r:embed="rId1"/>
          <a:stretch/>
        </p:blipFill>
        <p:spPr>
          <a:xfrm>
            <a:off x="4413240" y="1371600"/>
            <a:ext cx="458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P_endocrine-system"/>
          <p:cNvPicPr/>
          <p:nvPr/>
        </p:nvPicPr>
        <p:blipFill>
          <a:blip r:embed="rId1"/>
          <a:stretch/>
        </p:blipFill>
        <p:spPr>
          <a:xfrm>
            <a:off x="1828800" y="1295280"/>
            <a:ext cx="5181480" cy="4702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33cc"/>
                </a:solidFill>
                <a:uFillTx/>
                <a:latin typeface="Arial Black"/>
              </a:rPr>
              <a:t>Endocrine Syste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5562720"/>
            <a:ext cx="9144000" cy="129528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 Black"/>
              </a:rPr>
              <a:t>Glands regulate body functions by sending out chemical mess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Diagram 91"/>
          <p:cNvGrpSpPr/>
          <p:nvPr/>
        </p:nvGrpSpPr>
        <p:grpSpPr>
          <a:xfrm>
            <a:off x="2327760" y="607680"/>
            <a:ext cx="5021280" cy="5641200"/>
            <a:chOff x="2327760" y="607680"/>
            <a:chExt cx="5021280" cy="5641200"/>
          </a:xfrm>
        </p:grpSpPr>
        <p:sp>
          <p:nvSpPr>
            <p:cNvPr id="128" name="_s1028"/>
            <p:cNvSpPr/>
            <p:nvPr/>
          </p:nvSpPr>
          <p:spPr>
            <a:xfrm flipV="1">
              <a:off x="4211280" y="607320"/>
              <a:ext cx="1254600" cy="1409040"/>
            </a:xfrm>
            <a:custGeom>
              <a:avLst/>
              <a:gdLst>
                <a:gd name="textAreaLeft" fmla="*/ 450000 w 1254600"/>
                <a:gd name="textAreaRight" fmla="*/ 804600 w 1254600"/>
                <a:gd name="textAreaTop" fmla="*/ 505440 h 1409040"/>
                <a:gd name="textAreaBottom" fmla="*/ 903600 h 140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cc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RG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"/>
            <p:cNvSpPr/>
            <p:nvPr/>
          </p:nvSpPr>
          <p:spPr>
            <a:xfrm flipV="1">
              <a:off x="3584160" y="2016000"/>
              <a:ext cx="2508480" cy="1411560"/>
            </a:xfrm>
            <a:custGeom>
              <a:avLst/>
              <a:gdLst>
                <a:gd name="textAreaLeft" fmla="*/ 551520 w 2508480"/>
                <a:gd name="textAreaRight" fmla="*/ 1956960 w 2508480"/>
                <a:gd name="textAreaTop" fmla="*/ 310320 h 1411560"/>
                <a:gd name="textAreaBottom" fmla="*/ 1101240 h 141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RGAN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0"/>
            <p:cNvSpPr/>
            <p:nvPr/>
          </p:nvSpPr>
          <p:spPr>
            <a:xfrm flipV="1">
              <a:off x="2955240" y="3428640"/>
              <a:ext cx="3766680" cy="1409040"/>
            </a:xfrm>
            <a:custGeom>
              <a:avLst/>
              <a:gdLst>
                <a:gd name="textAreaLeft" fmla="*/ 653760 w 3766680"/>
                <a:gd name="textAreaRight" fmla="*/ 3112920 w 3766680"/>
                <a:gd name="textAreaTop" fmla="*/ 244440 h 1409040"/>
                <a:gd name="textAreaBottom" fmla="*/ 1164600 h 140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ISSU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1"/>
            <p:cNvSpPr/>
            <p:nvPr/>
          </p:nvSpPr>
          <p:spPr>
            <a:xfrm flipV="1">
              <a:off x="2327760" y="4836960"/>
              <a:ext cx="5021280" cy="1411560"/>
            </a:xfrm>
            <a:custGeom>
              <a:avLst/>
              <a:gdLst>
                <a:gd name="textAreaLeft" fmla="*/ 755280 w 5021280"/>
                <a:gd name="textAreaRight" fmla="*/ 4266000 w 5021280"/>
                <a:gd name="textAreaTop" fmla="*/ 212400 h 1411560"/>
                <a:gd name="textAreaBottom" fmla="*/ 1199160 h 141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ELL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800080"/>
                </a:solidFill>
                <a:uFillTx/>
                <a:latin typeface="Arial"/>
              </a:rPr>
              <a:t>DISCUSSION QUES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frontleft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797520" y="4495680"/>
            <a:ext cx="2346480" cy="2362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152280" y="106668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relationship between cells, tissues, organs and organ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ompare the four kinds of tissues found in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be a time when homeostasis was disrupted in your bod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body systems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think were eff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2108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8a83e"/>
                </a:solidFill>
                <a:uFillTx/>
                <a:latin typeface="Arial"/>
              </a:rPr>
              <a:t>T/F  QUICK QU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f8a83e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meostasis is the maintenance of a stable internal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pithelial tissue sends electrical signals throughout the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ood is a type of connective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ndocrine system consists of skin, hair, nails and their underl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 The lymphatic system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ked fluids to blood vess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frontleft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6797520" y="4495680"/>
            <a:ext cx="2346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 u="sng">
              <a:solidFill>
                <a:srgbClr val="800080"/>
              </a:solidFill>
              <a:uFillTx/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ating heart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N_LuJGobrpw&amp;NR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 Black"/>
              </a:rPr>
              <a:t>HOMEOSTA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05280" y="1828440"/>
            <a:ext cx="3124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uman body’s maintenance of a stable internal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hp-rip"/>
          <p:cNvPicPr/>
          <p:nvPr/>
        </p:nvPicPr>
        <p:blipFill>
          <a:blip r:embed="rId1"/>
          <a:stretch/>
        </p:blipFill>
        <p:spPr>
          <a:xfrm>
            <a:off x="2666880" y="1219320"/>
            <a:ext cx="3772080" cy="5638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477120" y="1600200"/>
            <a:ext cx="266688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homeostasis is interrupted, cells suffer and sometimes d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611520" y="2743200"/>
            <a:ext cx="2103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352680" y="3352680"/>
            <a:ext cx="2454480" cy="28371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61"/>
                </a:solidFill>
                <a:latin typeface="Arial"/>
              </a:rPr>
              <a:t>My Beloved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14161"/>
                </a:solidFill>
                <a:latin typeface="Arial"/>
              </a:rPr>
              <a:t>I will miss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 Black"/>
              </a:rPr>
              <a:t>THE WORK OF CE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a baseball team, every player has his jo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0199036"/>
          <p:cNvPicPr/>
          <p:nvPr/>
        </p:nvPicPr>
        <p:blipFill>
          <a:blip r:embed="rId1"/>
          <a:stretch/>
        </p:blipFill>
        <p:spPr>
          <a:xfrm>
            <a:off x="152280" y="1219320"/>
            <a:ext cx="2973600" cy="32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MCj03010720000[1]"/>
          <p:cNvPicPr/>
          <p:nvPr/>
        </p:nvPicPr>
        <p:blipFill>
          <a:blip r:embed="rId2"/>
          <a:stretch/>
        </p:blipFill>
        <p:spPr>
          <a:xfrm>
            <a:off x="5562720" y="32767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0" y="4419720"/>
            <a:ext cx="5334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have their own positions (or jobs) in the bod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red%20cells%20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</a:rPr>
              <a:t>RED BLOOD CEL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red%20cells%20"/>
          <p:cNvPicPr/>
          <p:nvPr/>
        </p:nvPicPr>
        <p:blipFill>
          <a:blip r:embed="rId1">
            <a:lum bright="-6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Groups of cells working together form a </a:t>
            </a:r>
            <a:r>
              <a:rPr b="1" i="1" lang="en-US" sz="4800" spc="-1" strike="noStrike">
                <a:solidFill>
                  <a:srgbClr val="ffccff"/>
                </a:solidFill>
                <a:latin typeface="Arial Black"/>
              </a:rPr>
              <a:t>TISS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types of tissu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pithelial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rvous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cle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ective Tiss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031206fuch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EPITHELIAL TISS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464832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vers and protects underlying tissue.  When you look at the surface of your skin, you see epithelial tis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014-nf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 Black"/>
              </a:rPr>
              <a:t>NERVOUS TISS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4876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nds electrical signals through the body.  It is found in the brain, nerves and sense orga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uchr_01_img0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MUSCLE TISS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541008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de up of cells that can contract and relax to produce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2:08:46Z</dcterms:created>
  <dc:creator>Caroline Pace</dc:creator>
  <dc:description/>
  <dc:language>en-US</dc:language>
  <cp:lastModifiedBy>jh</cp:lastModifiedBy>
  <dcterms:modified xsi:type="dcterms:W3CDTF">2010-09-25T12:24:51Z</dcterms:modified>
  <cp:revision>10</cp:revision>
  <dc:subject/>
  <dc:title>Cardiovascular System</dc:title>
</cp:coreProperties>
</file>